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1B9-0964-46C2-8C8D-8672A346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86F-E5F3-4579-93A8-445E1CC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D5F-E01D-420B-B72F-96BA4B37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EAF-F7BF-4113-BC40-15143D2E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B04-B7D4-4EE9-B742-DCD04F3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31D-030D-44DA-B367-045240C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F21-F017-4435-8006-CC0771C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5B8-832F-4AA5-8CFC-19C9751F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AE5-619D-44D1-AE66-987D1A8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99B-18D5-4994-BC34-3B1C01C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404-81AE-4A91-9424-C64D12C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569-370B-4EBD-B323-6FCC1AB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A67-20CB-45DD-BCC3-004E081E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lements of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63400">
            <a:off x="1295280" y="281916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L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5720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280" y="251460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7661" t="28129" r="28879" b="33381"/>
          <a:stretch/>
        </p:blipFill>
        <p:spPr>
          <a:xfrm>
            <a:off x="380880" y="762120"/>
            <a:ext cx="8458200" cy="5616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6535" t="27130" r="28879" b="33381"/>
          <a:stretch/>
        </p:blipFill>
        <p:spPr>
          <a:xfrm>
            <a:off x="909720" y="641520"/>
            <a:ext cx="7400880" cy="491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03160"/>
            <a:ext cx="6782040" cy="5079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98760" y="457200"/>
            <a:ext cx="4319640" cy="5715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731880"/>
            <a:ext cx="5943600" cy="5535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04800"/>
            <a:ext cx="8534160" cy="384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647640"/>
            <a:ext cx="5639040" cy="5564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0:06Z</dcterms:created>
  <dc:creator>Patrick J. Mooney</dc:creator>
  <dc:description/>
  <dc:language>en-US</dc:language>
  <cp:lastModifiedBy>Patrick J. Mooney</cp:lastModifiedBy>
  <dcterms:modified xsi:type="dcterms:W3CDTF">2012-01-02T16:06:57Z</dcterms:modified>
  <cp:revision>6</cp:revision>
  <dc:subject/>
  <dc:title>Slide 1</dc:title>
</cp:coreProperties>
</file>